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95F0-800E-4D71-A572-65DE16D44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776F-44F2-4BB1-8D1A-837011E1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4F79-009A-4AF1-A746-EB5C80B45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0F96-E53E-4D7B-BF5A-8419F0E12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D7C9-4071-4FA1-99ED-89AC738D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063F-CA7E-4569-BF2B-9E07E664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2FEA-EE97-4D33-A9FC-85461C98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B03C-5D24-47CC-98EC-A054288D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6AC4-98C6-4343-875D-123316AA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E731-4D5C-4793-9E8E-D13CEB8B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8724-BF0F-4F4A-832B-163DB527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019F-D9BC-4C4D-9612-27AEB75E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A929-960D-4234-AA6D-6599532DE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ма урока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Жизнь на разных материках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ния части 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. Рис – культурное растение, родина которого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2. Жираф – животное обитающее в 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3. Секвойя – растение характерное для 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4. Большую панду иначе называют 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5. Кенгуру  - животное, обитающее в _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5. Пингвин – животное обитающее в 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6. «Пищей богов», «сыном воды и солнца» называют растение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7. Большая панда обитает на территории 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8. Баобаб – растение обитающее в 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ния части 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28640"/>
          <a:ext cx="7859880" cy="4497480"/>
        </p:xfrm>
        <a:graphic>
          <a:graphicData uri="http://schemas.openxmlformats.org/drawingml/2006/table">
            <a:tbl>
              <a:tblPr/>
              <a:tblGrid>
                <a:gridCol w="2602080"/>
                <a:gridCol w="3025440"/>
                <a:gridCol w="2232360"/>
              </a:tblGrid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ки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я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отные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ние части 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ьте сообщение об одном растении или животном из тех, которые показаны на карте в учебнике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.122 - 12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Нарисуйте растение или животное которое вам особенно нравиться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7:54:03Z</dcterms:created>
  <dc:creator>Долгорукова</dc:creator>
  <dc:description/>
  <dc:language>en-US</dc:language>
  <cp:lastModifiedBy>Admin</cp:lastModifiedBy>
  <dcterms:modified xsi:type="dcterms:W3CDTF">2012-03-16T13:38:33Z</dcterms:modified>
  <cp:revision>18</cp:revision>
  <dc:subject/>
  <dc:title>Общие признаки хордовых животных</dc:title>
</cp:coreProperties>
</file>